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82F0-0177-4EDF-A43A-404F56C06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AA21-58DD-41EE-898A-A07176A62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FE7F-31D4-43F9-8A2A-9EC039A01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835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5767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9072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835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5767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A0A0-D723-4AB8-BCA9-F7E3631A5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19F34-962C-4503-A5E4-1D1103F58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DDA41-CBCE-4147-B7CC-71A71CAE1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2F759-4F41-489A-97A9-9D0B22865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1C42E-2E71-4462-9956-6361AB3B9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4FBA2-857E-4FE2-B5E3-D1E4A79A4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34802-615F-4AC2-9149-C1248D9EA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5A8A2-0A1B-4D90-8B1A-4DC5F098B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A6EB-7143-4080-A739-392D3497F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2ACCA-71AC-4F54-8371-56E9CC9EA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35645-63A0-45A5-9B50-E0079A30F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78C5B-71C6-4A84-AF61-D2B31AF91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D6B97-EC38-4837-BC26-7AACFBFBF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835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5767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99072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835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5767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19EF6-7354-482F-9F47-24AC10CB0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8B15-93E8-4206-B028-F0ACB56E5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9051-1AAD-44D5-9DDD-072A87AF3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F4F3-493C-415C-9577-2B839BDB3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4C33-FE91-4E22-8C7D-9BF581E54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DB83-DB50-4A6A-BD27-84006814E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C88C-2DA7-4997-8946-041F48136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9FB0-73F8-4F3F-9511-4A09ECBD3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73f8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573f8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73371"/>
                </a:gs>
                <a:gs pos="100000">
                  <a:srgbClr val="573f8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5698"/>
                </a:gs>
                <a:gs pos="100000">
                  <a:srgbClr val="573f8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6b5698"/>
                </a:gs>
                <a:gs pos="100000">
                  <a:srgbClr val="573f8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73371"/>
                </a:gs>
                <a:gs pos="100000">
                  <a:srgbClr val="573f8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5698"/>
                </a:gs>
                <a:gs pos="100000">
                  <a:srgbClr val="573f8b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A9E96-1708-40D0-A8EA-A6A19FAB71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9d9ff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573f8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73f8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73371"/>
                </a:gs>
                <a:gs pos="100000">
                  <a:srgbClr val="573f8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73371"/>
                </a:gs>
                <a:gs pos="100000">
                  <a:srgbClr val="573f8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5698"/>
                </a:gs>
                <a:gs pos="100000">
                  <a:srgbClr val="573f8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5698"/>
                </a:gs>
                <a:gs pos="100000">
                  <a:srgbClr val="573f8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9d9ff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923D3-37D0-45E5-9702-D9B5097978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3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68000" y="333360"/>
            <a:ext cx="525636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d9d9ff"/>
                </a:solidFill>
                <a:uFillTx/>
                <a:latin typeface="Comic Sans MS"/>
              </a:rPr>
              <a:t>Gwersi piano</a:t>
            </a:r>
            <a:endParaRPr b="1" lang="en-US" sz="28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84360" y="1458000"/>
            <a:ext cx="7920000" cy="42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ffffff"/>
                </a:solidFill>
                <a:latin typeface="Comic Sans MS"/>
              </a:rPr>
              <a:t>Dechreuodd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Anna, </a:t>
            </a:r>
            <a:r>
              <a:rPr b="0" lang="cy-GB" sz="2400" spc="-1" strike="noStrike">
                <a:solidFill>
                  <a:srgbClr val="ffffff"/>
                </a:solidFill>
                <a:latin typeface="Comic Sans MS"/>
              </a:rPr>
              <a:t>Bethan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, Carol a </a:t>
            </a:r>
            <a:r>
              <a:rPr b="0" lang="cy-GB" sz="2400" spc="-1" strike="noStrike">
                <a:solidFill>
                  <a:srgbClr val="ffffff"/>
                </a:solidFill>
                <a:latin typeface="Comic Sans MS"/>
              </a:rPr>
              <a:t>Delyth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cy-GB" sz="2400" spc="-1" strike="noStrike">
                <a:solidFill>
                  <a:srgbClr val="ffffff"/>
                </a:solidFill>
                <a:latin typeface="Comic Sans MS"/>
              </a:rPr>
              <a:t>gael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cy-GB" sz="2400" spc="-1" strike="noStrike">
                <a:solidFill>
                  <a:srgbClr val="ffffff"/>
                </a:solidFill>
                <a:latin typeface="Comic Sans MS"/>
              </a:rPr>
              <a:t>gwersi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piano </a:t>
            </a:r>
            <a:r>
              <a:rPr b="0" lang="cy-GB" sz="2400" spc="-1" strike="noStrike">
                <a:solidFill>
                  <a:srgbClr val="ffffff"/>
                </a:solidFill>
                <a:latin typeface="Comic Sans MS"/>
              </a:rPr>
              <a:t>llynedd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Cafodd Carol </a:t>
            </a:r>
            <a:r>
              <a:rPr b="0" lang="cy-GB" sz="2400" spc="-1" strike="noStrike">
                <a:solidFill>
                  <a:srgbClr val="ffff00"/>
                </a:solidFill>
                <a:latin typeface="Comic Sans MS"/>
              </a:rPr>
              <a:t>dwywaith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cy-GB" sz="2400" spc="-1" strike="noStrike">
                <a:solidFill>
                  <a:srgbClr val="ffff00"/>
                </a:solidFill>
                <a:latin typeface="Comic Sans MS"/>
              </a:rPr>
              <a:t>cymaint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 o </a:t>
            </a:r>
            <a:r>
              <a:rPr b="0" lang="cy-GB" sz="2400" spc="-1" strike="noStrike">
                <a:solidFill>
                  <a:srgbClr val="ffff00"/>
                </a:solidFill>
                <a:latin typeface="Comic Sans MS"/>
              </a:rPr>
              <a:t>wersi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cy-GB" sz="2400" spc="-1" strike="noStrike">
                <a:solidFill>
                  <a:srgbClr val="ffff00"/>
                </a:solidFill>
                <a:latin typeface="Comic Sans MS"/>
              </a:rPr>
              <a:t>â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cy-GB" sz="2400" spc="-1" strike="noStrike">
                <a:solidFill>
                  <a:srgbClr val="ffff00"/>
                </a:solidFill>
                <a:latin typeface="Comic Sans MS"/>
              </a:rPr>
              <a:t>Bethan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ff99ff"/>
                </a:solidFill>
                <a:latin typeface="Comic Sans MS"/>
              </a:rPr>
              <a:t>Cafodd Anna bedair gwers yn fwy na Delyth, ond tair gwers yn llai na Caro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99ff66"/>
                </a:solidFill>
                <a:latin typeface="Comic Sans MS"/>
              </a:rPr>
              <a:t>Un deg pump gwers gafodd Delyth.</a:t>
            </a:r>
            <a:r>
              <a:rPr b="0" lang="cy-GB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ffffff"/>
                </a:solidFill>
                <a:latin typeface="Comic Sans MS"/>
              </a:rPr>
              <a:t>Sawl gwers gafodd Betha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796000" y="4149720"/>
            <a:ext cx="274464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5T18:14:36Z</dcterms:created>
  <dc:creator>Carwyn</dc:creator>
  <dc:description/>
  <dc:language>en-US</dc:language>
  <cp:lastModifiedBy>Carwyn</cp:lastModifiedBy>
  <dcterms:modified xsi:type="dcterms:W3CDTF">2009-01-06T11:58:47Z</dcterms:modified>
  <cp:revision>3</cp:revision>
  <dc:subject/>
  <dc:title>Gwersi piano</dc:title>
</cp:coreProperties>
</file>